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FB10-726E-46E7-A02C-D4B400296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3F7B-F4ED-40B3-973F-7A8F0A0DA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1EFF-0E23-43F3-8689-F81FC9EF8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EB61-03D8-4152-866E-DD6ECD03D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9C2DA-362E-4D5E-8670-1E26C44D1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167EA-C0C0-43A8-8B48-F295DC086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1CF11-C14B-4F46-B64D-92C9E80DF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3BD92-1AB4-4DD1-8A84-D58094313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E7829-F1E7-46CA-82CE-B378E6EDB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7C870-4EFC-4992-A079-489E35FE5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0AF2D-66E0-4048-9450-2DD18196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C260-7087-456A-83A6-7EAC2C047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98996-9F85-4FE6-99A2-1F7A79B2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8BFCC-6C88-44E3-9C25-AFAAAD11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47E83-5D11-406B-9A46-8B833036C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677C2-EC88-46C6-8C63-359249300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234C0-8198-4759-8A4F-E1F3D570E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100B-7BE7-4EA0-9468-28F496BD2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4B6C-5FD2-42CB-B99B-B39E99D24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3322-C65C-42AC-9A8A-FC2C069EE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BE9C-6447-46A2-8195-827788522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6FFE-E7A5-4266-8ECD-2A0F4287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B31D-B3EB-4F70-BFE9-478E4A66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D4CB-247E-4518-ADB8-7A9CFD9F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D2A3F-08DF-4E4D-8A4F-EA7F2F78B00A}" type="slidenum">
              <a:rPr b="0" lang="ro-RO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7A92D-40A9-4204-A032-789588014D64}" type="slidenum">
              <a:rPr b="0" lang="ro-RO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6920" y="69228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Times New Roman"/>
              </a:rPr>
              <a:t>Ce evaluăm?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unoştinţe, atitudini, aptitudini, deprinder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Dacă ştiu, dacă ştiu să facă, dacă ştiu cum să facă sau dacă ştiu cum vor aplica în viaţa reală ceea ce ştiu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Atingerea obiectivelor legate de un anumit conţinu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formanţele celui evalua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Obiectivele propuse de către profes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Obiectivele pe care şi le-au propus cei evaluaţ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arcurgerea programei şcolar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Organizarea procesului de învăţa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erviciile pe care le oferă instituţia în care se desfăşoară procesu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Rezultatele (produsul) sau procesul în sine;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611280" y="189000"/>
            <a:ext cx="85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OPERAŢIONALIZAREA SISTEMULUI DE EVALU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500" spc="-1" strike="noStrike">
                <a:solidFill>
                  <a:srgbClr val="330033"/>
                </a:solidFill>
                <a:latin typeface="Times New Roman"/>
              </a:rPr>
              <a:t>De ce evaluăm?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ntru îmbunătăţirea performanţelor celor evaluaţ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ntru îmbunătăţirea performanţelor instrumentelor de evalua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ntru îmbunătăţirea metodelor, mijloacelor şi strategiilor de evalua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ntru realizarea de selecţi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ntru corectarea performanţel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ntru autocontrolul propriilor capacităţi de preda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ntru identificarea deficienţelor sau disfuncţionalităţilor la nivelul organizării unei unităţi şcola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ntru optimizarea conţinuturil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200" spc="-1" strike="noStrike">
                <a:solidFill>
                  <a:srgbClr val="330033"/>
                </a:solidFill>
                <a:latin typeface="Times New Roman"/>
              </a:rPr>
              <a:t>Cui foloseşte evaluarea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Celor evaluaţ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Evaluatorului (profesor, instituţie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Părinţilo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Factorilor de decizie şcolar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Celor care fac un anumit tip de selecţie (angajări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200" spc="-1" strike="noStrike">
                <a:solidFill>
                  <a:srgbClr val="330033"/>
                </a:solidFill>
                <a:latin typeface="Times New Roman"/>
              </a:rPr>
              <a:t>Pe cine evaluăm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Elevi luaţi individua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Elevi luaţi în raport cu grupul din care fac part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Un grup, o clasă sau un lot de indivizi grupaţi după un criteriu anume, de exemplu o grupă de vârstă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Un eşanti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200" spc="-1" strike="noStrike">
                <a:solidFill>
                  <a:srgbClr val="330033"/>
                </a:solidFill>
                <a:latin typeface="Times New Roman"/>
              </a:rPr>
              <a:t>Când evaluăm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La începutul unui proces (evaluarea iniţială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În timpul procesului (evaluare continuă sau formativă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La sfârşitul unui proces sau al unei etape (evaluare sumativă sau finală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200" spc="-1" strike="noStrike">
                <a:solidFill>
                  <a:srgbClr val="330033"/>
                </a:solidFill>
                <a:latin typeface="Times New Roman"/>
              </a:rPr>
              <a:t>Cum evaluăm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Prin ce meto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Cu ce tehnici şi procedee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Cu ce instrumen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200" spc="-1" strike="noStrike">
                <a:solidFill>
                  <a:srgbClr val="330033"/>
                </a:solidFill>
                <a:latin typeface="Times New Roman"/>
              </a:rPr>
              <a:t>Funcţiile evaluări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0000"/>
                </a:solidFill>
                <a:latin typeface="Arial"/>
              </a:rPr>
              <a:t>de constatar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, dacă o activitate instructivă s‑a derulat ori a avut loc în condiţii optime, o cunoştinţă a fost asimilată, o deprindere a fost achiziţionat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0000"/>
                </a:solidFill>
                <a:latin typeface="Arial"/>
              </a:rPr>
              <a:t>de informar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a societăţii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, prin diferite mijloace, privind stadiul şi evoluţia pregătirii populaţiei şcolar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0000"/>
                </a:solidFill>
                <a:latin typeface="Arial"/>
              </a:rPr>
              <a:t>de diagnosticar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a cauzelor care au condus la o slabă, sau bună pregătire şi la o eficienţă scăzută a acţiunilor educativ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0000"/>
                </a:solidFill>
                <a:latin typeface="Arial"/>
              </a:rPr>
              <a:t>de prognosticar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a nevoilor şi disponibilităţilor viitoare ale elevilor sau ale instituţiilor de învăţămân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200" spc="-1" strike="noStrike">
                <a:solidFill>
                  <a:srgbClr val="330033"/>
                </a:solidFill>
                <a:latin typeface="Times New Roman"/>
              </a:rPr>
              <a:t>Funcţiile evaluării</a:t>
            </a: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continuare</a:t>
            </a:r>
            <a:endParaRPr b="0" lang="en-US" sz="1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14400" y="1600200"/>
            <a:ext cx="77724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0000"/>
                </a:solidFill>
                <a:latin typeface="Arial"/>
              </a:rPr>
              <a:t>de selecţie</a:t>
            </a: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o-RO" sz="2800" spc="-1" strike="noStrike">
                <a:solidFill>
                  <a:srgbClr val="000000"/>
                </a:solidFill>
                <a:latin typeface="Arial"/>
              </a:rPr>
              <a:t>sau de decizi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asupra poziţiei sau integrării unui elev într‑o ierarhie, într‑o formă sau într‑un nivel al pregătirii sal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0000"/>
                </a:solidFill>
                <a:latin typeface="Arial"/>
              </a:rPr>
              <a:t>de certificare</a:t>
            </a: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prin care se recunoaşte statutul dobândit de către candidat în urma susţinerii unui examen sau a unei evaluări cu caracter normativ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0000"/>
                </a:solidFill>
                <a:latin typeface="Arial"/>
              </a:rPr>
              <a:t>pedagogică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, în perspectiva elevului (motivaţională, stimulativă, de orientare şcolară şi profesională, de întărire a rezultatelor, de formare a unor abilităţi, de conştientizare a posibilităţilor) şi în perspectiva profesorului (pentru a şti ce a făcut şi ce are de realizat în continu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200" spc="-1" strike="noStrike">
                <a:solidFill>
                  <a:srgbClr val="330033"/>
                </a:solidFill>
                <a:latin typeface="Times New Roman"/>
              </a:rPr>
              <a:t>Bibliografie</a:t>
            </a:r>
            <a:r>
              <a:rPr b="0" lang="ro-RO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. Cucoş, Pedagogie, Polirom, Iaşi, 199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. Cristea, Dicţionar de termeni pedagogici, Editura Didactică şi Pedagogică, R.A. - Bucureşti, 1998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18:42:53Z</dcterms:created>
  <dc:creator>Adi</dc:creator>
  <dc:description/>
  <dc:language>en-US</dc:language>
  <cp:lastModifiedBy>ARDELEAN NORIN</cp:lastModifiedBy>
  <dcterms:modified xsi:type="dcterms:W3CDTF">2010-12-17T02:17:25Z</dcterms:modified>
  <cp:revision>7</cp:revision>
  <dc:subject/>
  <dc:title>Ce evaluăm?</dc:title>
</cp:coreProperties>
</file>